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149-BFA2-488F-945C-7D0FADD5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D28-0A7D-4623-AFEB-363438E3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14E-56F8-4BED-AB0F-B11AAB66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C43-980F-4829-A20F-4A99DA08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292C-3F2D-4B02-833D-34B2D3D4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071A-4664-402E-BC80-BCD3321D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F567-605F-4253-AEA8-A67A5482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4D67-5E6B-43E3-A4C7-8AD901A1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BC6A-0116-4B63-9FC1-C11560BA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4157-B41E-45D7-974E-D89491C4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6F4A-9635-467C-AAFD-5296C749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EA8-D1E5-4E79-B161-5B10F9EC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0124-3091-48B5-B7BC-74781A3A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F78E-A2D1-4E50-93DB-A08C8C3C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D45F-516B-4911-940C-B41CA021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F1F6-1868-4D7A-8E38-E650E70E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56D0-7128-4808-864B-15CA0EAB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B06-10F7-476A-8FDF-7544FCDA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F1B-6127-4FA2-8AF3-108B6AC3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E0C-87B5-4BAA-89C3-86C0F8D7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303-94CF-4F41-8EA5-492DCEAF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A32-2F5D-4625-B76D-FE9A8061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0DC-E42C-4E88-A335-E56393B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65F-5A2B-4E92-BB78-0E3BFB36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C410-8D1E-490B-9643-F785011B05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BA0C-35EA-4ACB-96D9-A068E901A6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llez, viens! – Level 2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itre 8 – Deuxième Ét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rappe les mouch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ffcc"/>
                </a:solidFill>
                <a:latin typeface="Tahoma"/>
              </a:rPr>
              <a:t>Choisissez la bon conjugaison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13716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38280" y="13716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ua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13716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0" y="13716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si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266688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38280" y="266688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ui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266688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tra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66688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396252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396252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u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48320" y="396252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t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0" y="396252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s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52578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i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52578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u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52578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tr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52578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s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FPS</cp:lastModifiedBy>
  <dcterms:modified xsi:type="dcterms:W3CDTF">2008-04-02T11:31:55Z</dcterms:modified>
  <cp:revision>38</cp:revision>
  <dc:subject/>
  <dc:title>Allez, viens! – Level 2</dc:title>
</cp:coreProperties>
</file>